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9C2-3572-46B6-BE00-4A2C29A7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C1B-196E-4CC2-B957-494F258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6D4-8734-4F81-88F1-0AB782FD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B89-F85E-46EF-9696-57DCBE28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1EC-27EA-4501-983D-07B0D55F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3FA-EA01-487A-8C8E-CE94F5D8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B92-FBC4-4481-BA31-CFCCBE9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0A8-A7CE-4F95-BE3B-5F7A7008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36A-1F8B-4282-991B-CE26B833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90A-1A5D-4EE5-82A8-62679E6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EDC-7F02-4F28-982B-35C0254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B0F-7F73-4E90-A702-6FF1E5C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C69-13CE-45BA-AF11-77A9B04D7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71080" y="717480"/>
            <a:ext cx="10153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Predstavitev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rememb 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vedbene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načrt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Hvala za vašo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Služba Vlade Republike Slovenije za razvoj in evropsko kohezijsko politi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memba INOP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4600" y="1803240"/>
            <a:ext cx="9342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Tokratno spremembo Odloka je narekova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treba po dopolnitvi INOP s prikazom dinamike črpanja posameznih proračunskih uporabnikov v letu 2018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razporeditev sredstev, planiranih za tekoče in naslednje leto s postavk OU na postavke PO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ažuriranje dinamik izvajanja evropske kohezijske politike v obdobju 2014–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sebine, ki se na novo vključujejo v INOP / 1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9280" y="15368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664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V INOP se je na novo vključilo 85 NIO v vrednosti 268 mio EUR (skupna vrednost za obdobje 2016-20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664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Glavna področja, ki se na novo vključujejo v INO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Izboljšanje infrastrukture za raziskave in inovacije ter zmogljivosti za razvoj odličnosti pri raziskavah in inovacijah ter promocija kompetenčnih centrov, zlasti tistih v evropskem interesu (PN 1.1. – 5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odbujanje naložb podjetij v raziskave in inovacije ter vzpostavljanje povezav in sinergij med podjetji, centri za raziskave in razvoj ter visokošolskim izobraževalnim sektorjem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1.2. – 41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, zlasti za urbana območja, vključno s spodbujanjem trajnostne multimodalne urbane mobilnosti in ustreznimi omilitvenimi prilagoditvenimi ukrepi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4.4. – 1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6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831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sebine, ki se na novo vključujejo v INOP / 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8720" y="164160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Varstvo in obnova biotske raznovrstnosti in tal ter spodbujanje ekosistemskih storitev, vključno z omrežjem NATURA 2000 in zelenimi infrastrukturami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PN 6.2. – 14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, zmanjšanju neenakosti pri zdravstvenem statusu, spodbujanje socialne vključenosti z lažjim dostopom do družbenih, kulturnih in rekreacijskih storitev, ter prehodom z institucionalnih storitev na skupnostne oblike storitev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9.3. – 2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Krepitev enake dostopnosti vseživljenjskega učenja za vse starostne skupine v formalnem, neformalnem in priložnostnem okolju, izpopolnjevanje znanj, spretnosti in kompetenc delovne sile ter spodbujanje prožnih možnosti učenja, vključno s poklicnim usmerjanjem in validiranjem pridobljenih kompetenc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PN 10.1. – 26 mio za obdobje 2016-18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Razčlenitev INOP po NPU za leta 2016, 2017 in 2018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104396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676440" y="1314360"/>
            <a:ext cx="97725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1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18640" y="182232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 obdobje 2016-2018 nerazporejenih okoli 408 mio evrov – sredstva ostajajo na postavkah 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redstva ostajajo nerazporejena predvsem na sledečih podorčji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krepi, ki se bodo izvajali v okviru mehanizma celostnih teritorialnih naložb (CT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krepi v okviru dogovorov za razvoj reg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izgradnja centra znanosti in centra raziskovalnih umet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ojekti s področja železniške infrastruk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ojekti iz področja socialne in zdravstvene infrastruk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lokalni razvoj, ki ga vodi skupnost (CL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redstva bo organ upravljanja prerazporejal, ko se bodo posamezni NIO uskladili in ko bodo izpolnjeni vsi pogoji, skladno z določbami ZIPRS 16-1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6" name="Picture 5" descr=""/>
          <p:cNvPicPr/>
          <p:nvPr/>
        </p:nvPicPr>
        <p:blipFill>
          <a:blip r:embed="rId1"/>
          <a:stretch/>
        </p:blipFill>
        <p:spPr>
          <a:xfrm>
            <a:off x="550800" y="1273320"/>
            <a:ext cx="1033956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3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415800" y="1362240"/>
            <a:ext cx="101077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Regionalni vidik glede na kohezijski regij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642960" y="1765440"/>
            <a:ext cx="108172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6:46:37Z</dcterms:created>
  <dc:creator>Domen Kovač</dc:creator>
  <dc:description/>
  <dc:language>en-US</dc:language>
  <cp:lastModifiedBy>Andrej</cp:lastModifiedBy>
  <cp:lastPrinted>2016-04-18T11:16:44Z</cp:lastPrinted>
  <dcterms:modified xsi:type="dcterms:W3CDTF">2016-05-16T20:58:12Z</dcterms:modified>
  <cp:revision>59</cp:revision>
  <dc:subject/>
  <dc:title>Predstavitev Uredbe o porabi sredstev evropske kohezijske politike v Republiki Sloveniji v programskem obdobju 2014–2020 za cilj „naložbe za rast in delovna mesta“</dc:title>
</cp:coreProperties>
</file>